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427-CCBB-4150-9B73-3F5AC3CF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C78-BC73-4427-8CBD-D73AC83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16B-C308-47FF-8BEB-929C5F3D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A39-3DD2-4A64-827D-6B2E5592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DC4-F097-4C1F-9110-16C116B1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A84-5AFD-4AC0-B6CB-DEDEC1C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A16-576B-47A0-A3C0-E0C55DE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2EB3-B60C-4E04-9A30-EF47D002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55D2-7176-4D1E-AA72-D39CBA1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9DCA-F155-4A45-B2E4-74BAF92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561E-C346-4923-A95D-C48E51A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2FD-5417-4A63-A126-45A9783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BCF-C18F-40ED-A048-7EBF373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799-DC75-4B3F-B72F-8CA884E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62A0-31A3-4C54-91C7-3B1CB3AA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7F1-E017-4605-9B6C-3E500A79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6B55-9A11-4398-A94F-FFF5F41A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2B3-39FB-4475-A636-0901AC6C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E6D-3139-4916-BF34-BD5146E9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D1-C6FD-4C06-A69F-19FCCAB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0EF-F832-4E35-A608-F26D60F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E81-C132-4A94-A19D-DFAE641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EA7-1B64-481E-BA8C-B0C06A1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361-568F-4C76-B9DA-A3F6310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59D-7FE0-401D-A1AF-0055205CC0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94C-E5BE-49E8-92F4-58B0D53F21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IDENTIFICARE NEVOI ELEVI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IU DE CAZ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SUL INTEL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rologie Traian Vuia </cp:lastModifiedBy>
  <dcterms:modified xsi:type="dcterms:W3CDTF">2010-03-31T20:21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